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8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.jpeg" ContentType="image/jpeg"/>
  <Override PartName="/ppt/media/image3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DCD-02CC-479B-BA19-5C96B937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EA8-A722-4C4B-9C2D-1BF34BF2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84A-4885-4A51-9D4E-B3BD37E1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D52-5F60-4990-A5E7-2272767D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8729-DB8A-4C57-851B-22BBACB39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8B29-D003-4A0A-8893-4AACAB97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02F9-015C-4CF4-968E-9C87C156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0545-0059-40CB-9AF7-0370547D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F03-D82C-45DC-A1B2-99CDC330A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4DCF-3047-4C12-A00D-9E8C11A8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FA86-7F4B-4585-A787-7B9757C3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2F43-E8E9-4359-9EBA-2D51E8CC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EE00-AACF-4DA0-B6F0-FC4E5CB9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C1E0-FCAF-47CA-9AE1-661D1CCC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9012-EBC1-40D6-890B-0A7592EE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7E0E-A362-4F41-912B-3061C685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7479E-2FCD-4795-AE3B-4088CCB5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7BE2-4476-4633-8F67-0477DDDB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100-5491-478D-AB2B-F52835F1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24F-5C3E-4728-AD8B-CCF2E39E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C3C-71EA-4FF4-AA99-C6FE0D058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408-224C-49A6-AF47-C26FCC09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F1C3-C90F-4286-B312-53D2597A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87FE-9AAF-4C66-9625-B5D2AAA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B05A1-713D-48ED-A32C-9AA6004D9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66F9-CC78-4581-B439-1CA85FADD7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Raquero. </a:t>
            </a:r>
            <a:r>
              <a:rPr b="1" i="1" lang="en-US" sz="5400" spc="-1" strike="noStrike">
                <a:solidFill>
                  <a:srgbClr val="ccecff"/>
                </a:solidFill>
                <a:latin typeface="Arial"/>
              </a:rPr>
              <a:t>EL BARCO-ESCUEL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657600" y="556272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ncisco Andrés Sier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ier Yagüe Domínguez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EL FUNCIONAMIENTO DEL BAR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 barco, igual que todos los demás medios de transporte, necesita propulsión, dirección y energía para poder avanza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 un velero 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nergí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vient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opulsió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crea gracias al cazado de las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scota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direcció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 controlamos con e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imó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52280" y="4267080"/>
            <a:ext cx="1600200" cy="7905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1828800" y="3733920"/>
            <a:ext cx="3809880" cy="2770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5867280" y="4495680"/>
            <a:ext cx="304812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L VIENTO Y LAS VE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navegar a vela, es imprescindible conocer la dirección del viento. Hay muchas cosas a nuestro alrededor que nos indican la dirección del viento: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una bandera, la dirección del hum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 velas son el motor del barco y, en el Raquero, podemos llevar </a:t>
            </a:r>
            <a:r>
              <a:rPr b="0" lang="en-US" sz="2800" spc="-1" strike="noStrike" u="sng">
                <a:solidFill>
                  <a:srgbClr val="ff9933"/>
                </a:solidFill>
                <a:uFillTx/>
                <a:latin typeface="Arial"/>
              </a:rPr>
              <a:t>diferentes tipos de vel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egún la fuerza del viento y el rumbo o dirección del barco: la Vela Mayor y el foque. Es lo que nosotros vamos a estudi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5360" y="1219320"/>
            <a:ext cx="8153280" cy="53625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L VIENTO Y LAS VEL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400" y="510480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467160" y="521100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5400" y="388548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50320" y="5257080"/>
            <a:ext cx="95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(Beaufort</a:t>
            </a: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 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3809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18288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001000" y="16765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772400" y="12952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695720" y="3276720"/>
            <a:ext cx="304920" cy="685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7695720" y="243792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924680" y="281952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Foqu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Vela menor 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Géno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29400" y="2057400"/>
            <a:ext cx="533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095880" y="1812960"/>
            <a:ext cx="7621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Ve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3300"/>
                </a:solidFill>
                <a:latin typeface="Arial"/>
              </a:rPr>
              <a:t>may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LOS RUMB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rumbo de un barco puede ser medido respecto al norte o respecto al viento. Éste último es el ángulo en el que navega un barco respecto al viento. En cada rumbo se utiliza una técnica distinta de naveg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57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LGUNOS CONCEPTOS BÁSICO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02" name="" descr="sobrevent-sotavent"/>
          <p:cNvPicPr/>
          <p:nvPr/>
        </p:nvPicPr>
        <p:blipFill>
          <a:blip r:embed="rId1"/>
          <a:stretch/>
        </p:blipFill>
        <p:spPr>
          <a:xfrm>
            <a:off x="3097080" y="-1086993000"/>
            <a:ext cx="1476360" cy="15238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sobrevent-sotavent"/>
          <p:cNvPicPr/>
          <p:nvPr/>
        </p:nvPicPr>
        <p:blipFill>
          <a:blip r:embed="rId2"/>
          <a:stretch/>
        </p:blipFill>
        <p:spPr>
          <a:xfrm>
            <a:off x="3097080" y="-1086993000"/>
            <a:ext cx="1047960" cy="19908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sobrevent-sotavent"/>
          <p:cNvPicPr/>
          <p:nvPr/>
        </p:nvPicPr>
        <p:blipFill>
          <a:blip r:embed="rId3"/>
          <a:stretch/>
        </p:blipFill>
        <p:spPr>
          <a:xfrm>
            <a:off x="3370320" y="1043938440"/>
            <a:ext cx="2676600" cy="981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28600" y="1721160"/>
            <a:ext cx="522936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Con las palabras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arlovento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y 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sotavento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definimos la zona de donde viene o a donde va el viento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El costado de sotavento de un barco es aquella donde está la vela mayo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Un barco que se encuentra a sotavento de otro es el de sotavento. Así,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se encuentra a barlovento d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B 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a sotavento de </a:t>
            </a:r>
            <a:r>
              <a:rPr b="1" lang="es-ES_tradnl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4"/>
          <a:stretch/>
        </p:blipFill>
        <p:spPr>
          <a:xfrm>
            <a:off x="457200" y="4952880"/>
            <a:ext cx="2666880" cy="10670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5"/>
          <a:stretch/>
        </p:blipFill>
        <p:spPr>
          <a:xfrm>
            <a:off x="7162920" y="3429000"/>
            <a:ext cx="1638360" cy="311472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6"/>
          <a:stretch/>
        </p:blipFill>
        <p:spPr>
          <a:xfrm>
            <a:off x="3962520" y="3429000"/>
            <a:ext cx="30384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LGUNOS CONCEPTOS BÁSICOS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0" name="" descr="sobrevent-sotavent"/>
          <p:cNvPicPr/>
          <p:nvPr/>
        </p:nvPicPr>
        <p:blipFill>
          <a:blip r:embed="rId1"/>
          <a:stretch/>
        </p:blipFill>
        <p:spPr>
          <a:xfrm>
            <a:off x="3097080" y="-1086993000"/>
            <a:ext cx="1476360" cy="1523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sobrevent-sotavent"/>
          <p:cNvPicPr/>
          <p:nvPr/>
        </p:nvPicPr>
        <p:blipFill>
          <a:blip r:embed="rId2"/>
          <a:stretch/>
        </p:blipFill>
        <p:spPr>
          <a:xfrm>
            <a:off x="3097080" y="-1086993000"/>
            <a:ext cx="1047960" cy="1990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sobrevent-sotavent"/>
          <p:cNvPicPr/>
          <p:nvPr/>
        </p:nvPicPr>
        <p:blipFill>
          <a:blip r:embed="rId3"/>
          <a:stretch/>
        </p:blipFill>
        <p:spPr>
          <a:xfrm>
            <a:off x="3370320" y="1043938440"/>
            <a:ext cx="2676600" cy="9810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0" y="-1055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914400" y="2438280"/>
          <a:ext cx="4267080" cy="163044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1630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demos navegar hacia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barloven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en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rumbos cerrado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como la ceñida y el descuartelar, pero sin pasar de un rumbo con un ángulo de 45º a cada lado del viento.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Estar dentro de éste ángulo con las velas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flameand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y la 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a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cerca de la dirección del viento es estar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roa al vien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/>
          <p:cNvSpPr/>
          <p:nvPr/>
        </p:nvSpPr>
        <p:spPr>
          <a:xfrm>
            <a:off x="138240" y="1828800"/>
            <a:ext cx="4433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66"/>
                </a:solidFill>
                <a:latin typeface="Arial"/>
              </a:rPr>
              <a:t>Navegar hacia barlovento</a:t>
            </a:r>
            <a:r>
              <a:rPr b="0" lang="en-US" sz="2800" spc="-1" strike="noStrike">
                <a:solidFill>
                  <a:srgbClr val="cc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943600" y="990720"/>
            <a:ext cx="2852640" cy="28191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76560" y="4267080"/>
            <a:ext cx="4191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ff66"/>
                </a:solidFill>
                <a:latin typeface="Arial"/>
              </a:rPr>
              <a:t>Navegar hacia sotav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5029200"/>
            <a:ext cx="40384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Podemos navegar hacia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sotavento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 en todos los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rumbos abiertos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l viento siempre nos llevará fácilmente hacia sotavento. Por eso siempre es mejor empezar navegando hacia barloven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5"/>
          <a:stretch/>
        </p:blipFill>
        <p:spPr>
          <a:xfrm>
            <a:off x="5943600" y="388620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ecff"/>
                </a:solidFill>
                <a:latin typeface="Arial"/>
              </a:rPr>
              <a:t>Cazar y Amollar.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zar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cción de cerrar la v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791320" y="152280"/>
            <a:ext cx="3276360" cy="254664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23840" y="1600200"/>
            <a:ext cx="3686040" cy="23623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4343400"/>
            <a:ext cx="89154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empre que el barco esté fuera del ángulo de 45º de proa al viento, a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z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a escota,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la se hinch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anc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 barc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to mas queramos  acercarnos al rumbo de empopada, mas tendremos que amollar la vel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2666880"/>
            <a:ext cx="5334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mollar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brir la vela, soltar de una esco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indefinite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indefinite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indefinite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Escorar y derivar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1920" y="2514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el viento aumenta su fuerza, el barco puede escorar demasiado, navegar peor y puede llegar a volc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83808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co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 la inclinación lateral del bar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733920" y="3321000"/>
            <a:ext cx="5257800" cy="33847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228600" y="4038480"/>
            <a:ext cx="3429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bemo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tar escota de mayo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ara controlar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scor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entras dure la rach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460520"/>
            <a:ext cx="8915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uando cazamos escota, además de hacernos navegar, el barco se escor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2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3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9917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riv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es el movimiento lateral del barco hacia sotavento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evitar la deriva calamos l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Al variar el rumbo debemos variar el calado de la orza.(para mas avanzado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alado de la orza se varia desde la caja.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276720" cy="230976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3048120" cy="2748240"/>
          </a:xfrm>
          <a:prstGeom prst="rect">
            <a:avLst/>
          </a:prstGeom>
          <a:ln w="0">
            <a:noFill/>
          </a:ln>
        </p:spPr>
      </p:pic>
      <p:cxnSp>
        <p:nvCxnSpPr>
          <p:cNvPr id="334" name=""/>
          <p:cNvCxnSpPr>
            <a:stCxn id="331" idx="3"/>
            <a:endCxn id="331" idx="3"/>
          </p:cNvCxnSpPr>
          <p:nvPr/>
        </p:nvCxnSpPr>
        <p:spPr>
          <a:xfrm>
            <a:off x="9143640" y="3177720"/>
            <a:ext cx="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 flipH="1">
            <a:off x="7086600" y="3352680"/>
            <a:ext cx="1447920" cy="1295640"/>
          </a:xfrm>
          <a:prstGeom prst="line">
            <a:avLst/>
          </a:prstGeom>
          <a:ln w="38160">
            <a:solidFill>
              <a:srgbClr val="00ff00"/>
            </a:solidFill>
            <a:miter/>
            <a:headEnd len="sm" type="triangle" w="sm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10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500"/>
                            </p:stCondLst>
                            <p:childTnLst>
                              <p:par>
                                <p:cTn id="3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3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ecff"/>
                </a:solidFill>
                <a:latin typeface="Arial"/>
              </a:rPr>
              <a:t>MANIOBRAS BÁSICAS.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8380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zar y Arrib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41911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5238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rz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gnifica acercar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l v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714840"/>
            <a:ext cx="5867280" cy="31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rib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ignifica alejar l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l v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 viento fuerte cuesta un poco arribar. Ayudaremos a que el barco arribe si amollamos escota de mayor y dejamos que flamee un poc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5943600" y="1295280"/>
            <a:ext cx="2109960" cy="2286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5978520" y="990720"/>
            <a:ext cx="3089160" cy="5790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920" y="2362320"/>
            <a:ext cx="6476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yudaremos a que el barco orce si vamos cazando la escota progresivame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4124160" cy="59436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ás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z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as; mayor y foq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tava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304920" y="4267080"/>
            <a:ext cx="4893480" cy="2227680"/>
            <a:chOff x="304920" y="4267080"/>
            <a:chExt cx="4893480" cy="2227680"/>
          </a:xfrm>
        </p:grpSpPr>
        <p:grpSp>
          <p:nvGrpSpPr>
            <p:cNvPr id="217" name=""/>
            <p:cNvGrpSpPr/>
            <p:nvPr/>
          </p:nvGrpSpPr>
          <p:grpSpPr>
            <a:xfrm>
              <a:off x="304920" y="4313160"/>
              <a:ext cx="4322520" cy="2181600"/>
              <a:chOff x="304920" y="4313160"/>
              <a:chExt cx="4322520" cy="2181600"/>
            </a:xfrm>
          </p:grpSpPr>
          <p:pic>
            <p:nvPicPr>
              <p:cNvPr id="2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4313160"/>
                <a:ext cx="4322520" cy="2149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2036520" y="62182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Estrib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60360" y="4267080"/>
              <a:ext cx="4838040" cy="1313280"/>
              <a:chOff x="360360" y="4267080"/>
              <a:chExt cx="4838040" cy="131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2112480" y="42670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Bab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055760" y="53038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Pro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60360" y="5303880"/>
                <a:ext cx="114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200" spc="-1" strike="noStrike">
                    <a:solidFill>
                      <a:srgbClr val="ff3300"/>
                    </a:solidFill>
                    <a:latin typeface="Arial"/>
                  </a:rPr>
                  <a:t>Pop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5867280" y="198108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91520" y="121932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182880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525780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5943600"/>
            <a:ext cx="3808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81680" y="5562720"/>
            <a:ext cx="38124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-360" y="2743200"/>
            <a:ext cx="5715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demos dividir la maniobra en 3 par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Orzar, desde el rumbo que llevamos hasta proa al v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. Cruzar la línea del viento. Las velas cambian de lado y la tripulación tambié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. Arribar desde proa al viento hasta el nuevo rumb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29000" y="127080"/>
            <a:ext cx="1905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a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572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ad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 avante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ar por avante significa cambiar de amura pasando por proa al viento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mejor momento para iniciar una virada por avante es cuando el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rco va a la máxima velocida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5883120" y="2590920"/>
            <a:ext cx="32608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1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indefinite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30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rada en redondo o Trasluchad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ifica cambiar de amura navegand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favor del vient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 realizarla hace falta que toda la tripulación esté muy atenta y bien senta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6705720" y="990720"/>
            <a:ext cx="2336760" cy="57909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52280" y="1447920"/>
            <a:ext cx="66294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Podemos dividir la maniobra en 4 parte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Navegando en rumbo de popa, cuando los tripulantes estan preparados, </a:t>
            </a: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el patrón avisa y tira el timón ligeramente hacia barlov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El patrón coge la escota y   ayuda a pasar la botavara a sotavento. Un tripulante puede ayudar haciendo lo mismo desde la cont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Cuando la vela pasa al otro lado el patrón suelta toda la esco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s-ES_tradnl" sz="2600" spc="-1" strike="noStrike">
                <a:solidFill>
                  <a:srgbClr val="ffffff"/>
                </a:solidFill>
                <a:latin typeface="Arial"/>
              </a:rPr>
              <a:t> El patrón estabiliza el barco con el timón y los tripulantes con el pes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9" dur="3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indefinite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5" dur="50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indefinite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28600" y="457200"/>
            <a:ext cx="525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s de guía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El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mas segur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de todos. Para atar cualquier parte, no se abre aun faltándole tens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2743200"/>
            <a:ext cx="52578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Ballestringer</a:t>
            </a: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. Nudo de atraque. Al tensar el cabo el nudo se hace firme y no resbal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04920" y="4724280"/>
            <a:ext cx="533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cer firme sobre una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rnamus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 para asegurar las driz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3200400" cy="13446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28600" y="3124080"/>
            <a:ext cx="3676680" cy="123048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5486400" y="5029200"/>
            <a:ext cx="333360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indefinite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indefinite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indefinite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indefinite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Glosario de </a:t>
            </a: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término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2280" y="914400"/>
            <a:ext cx="88394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let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Parte lateral del casco más cerca de la pop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mollar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brir la vela, soltar de una escot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mur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Parte lateral del casco más cerca de la pro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Arriar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Bajar las vel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Baliz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Boya para delimitar o señaliza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aña del timón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Barra fijada al timón que sirve para maniobrar a este últim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azar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Acción de cerrar la vel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Cornamus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Pieza para fijar un cab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Deriv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Desviación de la embarcación cuando avanza lateralment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ffffff"/>
                </a:solidFill>
                <a:latin typeface="Arial"/>
              </a:rPr>
              <a:t>Driza:</a:t>
            </a: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 En Vela Ligera es cualquier cabo que recorre el mástil utilizado para izar una vel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019920" y="3581280"/>
            <a:ext cx="144756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0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3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indefinite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indefinite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indefinite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indefinite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20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20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2000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indefinite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indefinite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indefinite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indefinite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indefinite"/>
                                        <p:tgtEl>
                                          <p:spTgt spid="3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3" dur="500"/>
                                        <p:tgtEl>
                                          <p:spTgt spid="3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22860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lor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ongitud del casco desde proa a pop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Escot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abo utilizado para cazar o amollar una vel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Grillete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zar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Subir una ve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Mang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Ancho del casco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Orza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ieza que una vez colocada en su lugar, al ir sumergida, impide la deriv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ujamen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tremo inferior de la vel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Puño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értice extremo de la vel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Sable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arilla o listón que se introduce en la baluma de la vela para aguantar su form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irada por avante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rar pasando la proa por donde viene el vi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Virada en redondo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Virar pasando la popa por donde viene el vient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1685880" cy="11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indefinite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indefinite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indefinite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indefinite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1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0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0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indefinite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indefinite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indefinite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indefinite"/>
                                        <p:tgtEl>
                                          <p:spTgt spid="3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indefinite"/>
                                        <p:tgtEl>
                                          <p:spTgt spid="3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2000" fill="hold"/>
                                        <p:tgtEl>
                                          <p:spTgt spid="3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b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238880" y="3657600"/>
            <a:ext cx="1298520" cy="261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1108800">
            <a:off x="2193840" y="1761840"/>
            <a:ext cx="1067040" cy="297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831960"/>
            <a:ext cx="312408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Ayuda a la tensión de la vel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Aumentado considerablemente la superficie vélica con las mismas medidas de mástil y botavara. Dotando a los barcos de más velocidad con vientos-ligeros y aumentando las prestaciones en todo tipo de condiciones.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ásti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238880" y="2438280"/>
            <a:ext cx="419400" cy="36291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971800" y="1828800"/>
            <a:ext cx="609480" cy="373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143000"/>
            <a:ext cx="38862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alo vertical (normalmente de fibra) que soporta el velame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z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629400" y="2895480"/>
            <a:ext cx="1085760" cy="21337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124080" y="2895480"/>
            <a:ext cx="457200" cy="762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8120" y="1828800"/>
            <a:ext cx="38088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69040" y="1448640"/>
            <a:ext cx="377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abo que sujeta el aparejo (normalmente al cabezal de la botavara) para izar la vel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as; mayor y foqu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486400" y="3429000"/>
            <a:ext cx="1173240" cy="28288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924680" y="3429000"/>
            <a:ext cx="750960" cy="17622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rot="558600">
            <a:off x="2168280" y="1830240"/>
            <a:ext cx="1447560" cy="3710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21342000">
            <a:off x="2895480" y="3114720"/>
            <a:ext cx="1447920" cy="2490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00600" y="137160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9933"/>
                </a:solidFill>
                <a:uFillTx/>
                <a:latin typeface="Arial"/>
              </a:rPr>
              <a:t>Vela May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nsar el gratil para su correcto funcionamiento sin que queden arrug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i se forman arrugas en el sable, hay que tensar mas el pujame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7480" y="1371600"/>
            <a:ext cx="1676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9933"/>
                </a:solidFill>
                <a:uFillTx/>
                <a:latin typeface="Arial"/>
              </a:rPr>
              <a:t>Vela meno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 u="sng">
                <a:solidFill>
                  <a:srgbClr val="ff9933"/>
                </a:solidFill>
                <a:uFillTx/>
                <a:latin typeface="Arial"/>
              </a:rPr>
              <a:t>o foqu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El foque es una vela triangular que se coloca a proa del pa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ava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629400" y="3733920"/>
            <a:ext cx="1943280" cy="45720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 rot="5400000">
            <a:off x="2327760" y="4377600"/>
            <a:ext cx="741240" cy="158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34120" y="1753920"/>
            <a:ext cx="3425760" cy="14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Elemento del aparejo que se asegura al mástil por un extremo y a la vela por el otro (por el puño de escota) para darle forma y poder cazarla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086600" y="4495680"/>
            <a:ext cx="1219320" cy="9432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 rot="5400000">
            <a:off x="1257120" y="5295960"/>
            <a:ext cx="1067040" cy="838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1136520"/>
            <a:ext cx="36576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El timón es el volante de un barco. Todos funcionan de la misma manera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Importante que durante la navegación las palas de los timones estén completamente calad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ff9933"/>
                </a:solidFill>
                <a:latin typeface="Arial"/>
              </a:rPr>
              <a:t>Evitar tirones y tratarlo con mucho cuid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8862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SUS PART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3218040" cy="45720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5715000" y="4114800"/>
            <a:ext cx="3152880" cy="609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 rot="5400000">
            <a:off x="2705040" y="4305240"/>
            <a:ext cx="533520" cy="2743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1447920"/>
            <a:ext cx="2362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Monocasc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Gran pes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9933"/>
                </a:solidFill>
                <a:latin typeface="Arial"/>
              </a:rPr>
              <a:t>1-8 perso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co Luque</cp:lastModifiedBy>
  <dcterms:modified xsi:type="dcterms:W3CDTF">2009-10-14T08:00:07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